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08E-6388-4FAC-8AD3-9B92246B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C82-E0A2-41DD-A641-A55F28D8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910-13A9-4A42-8489-0872C089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46D-79B8-4AF6-AE70-8FFE2DF3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FCD-8A2B-45BC-A2FF-D5CCAD97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BBA2-F99C-4E29-AC6C-8DB29DA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DEDB-7E96-4227-8302-DFB78CE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A29E-08D0-424A-880A-426B4D3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B90-9181-4370-AA7D-6B115A6A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023-1419-48EB-AA2A-D550C18A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600-F64C-41F4-83B2-C048556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184-9EE8-4D52-BDAE-86B2C6E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C87-FEE5-43E4-A27B-B2F54AE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7B14-AA2D-4813-8E00-76EC3DD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E26A-057D-47F3-8082-A83FD21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609-3D6C-4127-8133-F7049C60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16FB-4824-4281-84B7-8F399F0B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105-AF55-4116-A4AC-91600A96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C3D-883E-4DBE-8F8E-9DDC8FE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D13-4CA4-48D6-9B24-D7094C47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364-0600-42DE-8147-FC05BB8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88F-A0F5-4970-88A4-E01491F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27D-5705-423E-90A6-F15B479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B33-9A9C-4474-B7EE-A272FF3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BE7-DC3D-4B16-94EC-967470DDF9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BF0E-7F64-4F53-9539-E977698470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cademic.bowdoin.edu/classics/research/wangwright/html/decoration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783229321"/>
          <p:cNvPicPr/>
          <p:nvPr/>
        </p:nvPicPr>
        <p:blipFill>
          <a:blip r:embed="rId1"/>
          <a:stretch/>
        </p:blipFill>
        <p:spPr>
          <a:xfrm>
            <a:off x="2819520" y="1752480"/>
            <a:ext cx="3417840" cy="490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804320" y="22860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oman Hous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nd Yo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931480" y="30492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IMPLUV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4920" y="91764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s was a shal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tangular pool which col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 water from a hole in the cei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 the atr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0" descr="intro6"/>
          <p:cNvPicPr/>
          <p:nvPr/>
        </p:nvPicPr>
        <p:blipFill>
          <a:blip r:embed="rId1"/>
          <a:stretch/>
        </p:blipFill>
        <p:spPr>
          <a:xfrm>
            <a:off x="4343400" y="1219320"/>
            <a:ext cx="4541760" cy="5105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804600" y="5799240"/>
            <a:ext cx="22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uv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2895480" y="5562360"/>
            <a:ext cx="32767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villagods"/>
          <p:cNvPicPr/>
          <p:nvPr/>
        </p:nvPicPr>
        <p:blipFill>
          <a:blip r:embed="rId1"/>
          <a:stretch/>
        </p:blipFill>
        <p:spPr>
          <a:xfrm>
            <a:off x="228600" y="914400"/>
            <a:ext cx="3784680" cy="5410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259440" y="18108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LARAR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67080" y="1066680"/>
            <a:ext cx="4619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the right of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luvium wa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lararium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– the shr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the household god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062"/>
          <p:cNvPicPr/>
          <p:nvPr/>
        </p:nvPicPr>
        <p:blipFill>
          <a:blip r:embed="rId2"/>
          <a:stretch/>
        </p:blipFill>
        <p:spPr>
          <a:xfrm>
            <a:off x="4191120" y="34290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omuscol"/>
          <p:cNvPicPr/>
          <p:nvPr/>
        </p:nvPicPr>
        <p:blipFill>
          <a:blip r:embed="rId1"/>
          <a:stretch/>
        </p:blipFill>
        <p:spPr>
          <a:xfrm>
            <a:off x="2209680" y="457200"/>
            <a:ext cx="6629400" cy="521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46960" y="549432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u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21932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219320" y="3580920"/>
            <a:ext cx="22096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562560" y="587520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 flipH="1" flipV="1">
            <a:off x="4190760" y="3733920"/>
            <a:ext cx="2286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3720" y="48276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mpluviu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1295280" y="990720"/>
            <a:ext cx="32767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05280" y="252252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1752480" y="281952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52640" y="304920"/>
            <a:ext cx="7067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round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the bedroo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bicu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 The bedrooms did no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ave doors, but rather were closed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ff with a heavy curtai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small_VillaofMysteriesdetail1"/>
          <p:cNvPicPr/>
          <p:nvPr/>
        </p:nvPicPr>
        <p:blipFill>
          <a:blip r:embed="rId1"/>
          <a:stretch/>
        </p:blipFill>
        <p:spPr>
          <a:xfrm>
            <a:off x="1600200" y="239724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142560" y="121932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057400" y="182880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1752480" y="198108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6680" y="1828800"/>
            <a:ext cx="42674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685800" y="1828800"/>
            <a:ext cx="4114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966960" y="304920"/>
            <a:ext cx="726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irst area of the house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a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parated from the second part by th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tudy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ablin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 Here, most import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usiness was conduc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romanvilla01"/>
          <p:cNvPicPr/>
          <p:nvPr/>
        </p:nvPicPr>
        <p:blipFill>
          <a:blip r:embed="rId1"/>
          <a:stretch/>
        </p:blipFill>
        <p:spPr>
          <a:xfrm>
            <a:off x="1523880" y="2362320"/>
            <a:ext cx="6096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33560" y="1913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in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143000" y="2514600"/>
            <a:ext cx="4191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72640" y="380880"/>
            <a:ext cx="7323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econd courtyard area consisted of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pen colonnade of pillars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peristy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rrounding the gard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hortus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peristyle1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304920" y="4046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peristylum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hort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area w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laborately decorated and often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uld relax here with guests or on their 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00000960_000"/>
          <p:cNvPicPr/>
          <p:nvPr/>
        </p:nvPicPr>
        <p:blipFill>
          <a:blip r:embed="rId1"/>
          <a:stretch/>
        </p:blipFill>
        <p:spPr>
          <a:xfrm>
            <a:off x="1600200" y="2438280"/>
            <a:ext cx="5791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omuscol"/>
          <p:cNvPicPr/>
          <p:nvPr/>
        </p:nvPicPr>
        <p:blipFill>
          <a:blip r:embed="rId1"/>
          <a:stretch/>
        </p:blipFill>
        <p:spPr>
          <a:xfrm>
            <a:off x="2438280" y="914400"/>
            <a:ext cx="6324840" cy="4979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8040" y="2743200"/>
            <a:ext cx="237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stylu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r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057400" y="228564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ome-Sweet-Home-new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013040" y="36360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Roman house was not like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dern-day ho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65040" y="487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27760" y="990720"/>
            <a:ext cx="61041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rrounding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peristyl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lave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quar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kitch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l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ath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tr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dining 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riclin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833760" y="457200"/>
            <a:ext cx="7470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kitchen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cul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and the bathro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tri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ere located next to each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ther due to the need for running wat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kitchen"/>
          <p:cNvPicPr/>
          <p:nvPr/>
        </p:nvPicPr>
        <p:blipFill>
          <a:blip r:embed="rId1"/>
          <a:stretch/>
        </p:blipFill>
        <p:spPr>
          <a:xfrm>
            <a:off x="228600" y="236232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4a"/>
          <p:cNvPicPr/>
          <p:nvPr/>
        </p:nvPicPr>
        <p:blipFill>
          <a:blip r:embed="rId2"/>
          <a:stretch/>
        </p:blipFill>
        <p:spPr>
          <a:xfrm>
            <a:off x="5257800" y="2362320"/>
            <a:ext cx="3657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43000" y="15318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35440" y="3284640"/>
            <a:ext cx="14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1600200" y="1905120"/>
            <a:ext cx="4876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1752480" y="3276720"/>
            <a:ext cx="4114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28600" y="1676520"/>
            <a:ext cx="3962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last room of the Roman house was the dining room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riclin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hich means 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ree couche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8" descr="FrutR11recon"/>
          <p:cNvPicPr/>
          <p:nvPr/>
        </p:nvPicPr>
        <p:blipFill>
          <a:blip r:embed="rId1"/>
          <a:stretch/>
        </p:blipFill>
        <p:spPr>
          <a:xfrm>
            <a:off x="4648320" y="533520"/>
            <a:ext cx="3524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muscol"/>
          <p:cNvPicPr/>
          <p:nvPr/>
        </p:nvPicPr>
        <p:blipFill>
          <a:blip r:embed="rId1"/>
          <a:stretch/>
        </p:blipFill>
        <p:spPr>
          <a:xfrm>
            <a:off x="2362320" y="91440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143640" y="182880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lin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1523880" y="2438280"/>
            <a:ext cx="5410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omuscol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971080" y="2019240"/>
            <a:ext cx="323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FINI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57200" y="38088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Roman house did not have a front  yard and came up right to the side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johnston124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861120" y="304920"/>
            <a:ext cx="7331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re were very few windows due t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act that large windows would ha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de the house incredibly hot during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ummer and cold during the wint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IMG_0406"/>
          <p:cNvPicPr/>
          <p:nvPr/>
        </p:nvPicPr>
        <p:blipFill>
          <a:blip r:embed="rId1"/>
          <a:stretch/>
        </p:blipFill>
        <p:spPr>
          <a:xfrm>
            <a:off x="1676520" y="2432160"/>
            <a:ext cx="5486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chouse"/>
          <p:cNvPicPr/>
          <p:nvPr/>
        </p:nvPicPr>
        <p:blipFill>
          <a:blip r:embed="rId1"/>
          <a:stretch/>
        </p:blipFill>
        <p:spPr>
          <a:xfrm>
            <a:off x="1828800" y="1981080"/>
            <a:ext cx="5257800" cy="3461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801000" y="380880"/>
            <a:ext cx="742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ront of a Roman house usually had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 front door 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ianu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with two shop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aberna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) on both sides of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25800" y="58672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7480" y="43434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492680" y="42670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1600200" y="4495680"/>
            <a:ext cx="1600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1"/>
          <p:cNvSpPr/>
          <p:nvPr/>
        </p:nvSpPr>
        <p:spPr>
          <a:xfrm flipH="1" flipV="1">
            <a:off x="5715000" y="43430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4495680" y="46483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omuscol"/>
          <p:cNvPicPr/>
          <p:nvPr/>
        </p:nvPicPr>
        <p:blipFill>
          <a:blip r:embed="rId1"/>
          <a:stretch/>
        </p:blipFill>
        <p:spPr>
          <a:xfrm>
            <a:off x="2286000" y="533520"/>
            <a:ext cx="6324480" cy="4979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66320" y="246528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676520" y="28195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752480" y="289548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44800" y="450360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an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1523880" y="3886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7440" y="333360"/>
            <a:ext cx="694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Roman house was divided i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parts, each with a courty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rrounded by ro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aus1"/>
          <p:cNvPicPr/>
          <p:nvPr/>
        </p:nvPicPr>
        <p:blipFill>
          <a:blip r:embed="rId1"/>
          <a:stretch/>
        </p:blipFill>
        <p:spPr>
          <a:xfrm>
            <a:off x="1905120" y="2057400"/>
            <a:ext cx="4952880" cy="380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298440" y="51814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189560" y="365760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1447920" y="3657240"/>
            <a:ext cx="21333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 flipV="1">
            <a:off x="4952880" y="3276720"/>
            <a:ext cx="2819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04920" y="1066680"/>
            <a:ext cx="4038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nce through the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ianu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one would proceed through the entry hall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fauc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) to the firs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urtyar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8" descr="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0880"/>
            <a:ext cx="38131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38088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ATRIU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is was the reception hall where the family received and welcomed guests. In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at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were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impluv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and the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lararium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Boulanger_atrium"/>
          <p:cNvPicPr/>
          <p:nvPr/>
        </p:nvPicPr>
        <p:blipFill>
          <a:blip r:embed="rId1"/>
          <a:stretch/>
        </p:blipFill>
        <p:spPr>
          <a:xfrm>
            <a:off x="2133720" y="2819520"/>
            <a:ext cx="4800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31:43Z</dcterms:created>
  <dc:creator>Keith Toda</dc:creator>
  <dc:description/>
  <dc:language>en-US</dc:language>
  <cp:lastModifiedBy>Jamel Daugherty</cp:lastModifiedBy>
  <dcterms:modified xsi:type="dcterms:W3CDTF">2015-04-19T18:28:28Z</dcterms:modified>
  <cp:revision>40</cp:revision>
  <dc:subject/>
  <dc:title>Slide 1</dc:title>
</cp:coreProperties>
</file>